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3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6468-2D59-478B-9590-CF9657DFF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5DC4-6E23-4F1C-8589-6904F6B4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49DA-57B8-4116-A6FA-C0BD4F88D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99D8-4A02-4E3A-A280-2568AF0ED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917C-7BC2-47F1-A9C1-5DCEE38D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86C5-2286-4E35-99B4-C1F891C3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4C7F-432E-4F1B-A1B8-37192A1A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5FF8-CA8D-4E30-B83B-8453A569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6A87-80F3-4894-A46B-8FDE1906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7AE0-79B7-475D-A5F9-FC3FAFA2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FF0A-3068-4690-B1F3-9861A288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0D20-AC71-4144-A179-31272D1E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2D36-E329-4E7D-8299-B6BA2D4FB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302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90920" y="2133720"/>
            <a:ext cx="37335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ik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7816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oper Black"/>
              </a:rPr>
              <a:t>A website that can be collaboratively ed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590920" y="2133720"/>
            <a:ext cx="37335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Wik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slow" advTm="12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df35d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# of Wikis: Raising B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80880" y="6324480"/>
            <a:ext cx="8458200" cy="381240"/>
            <a:chOff x="380880" y="6324480"/>
            <a:chExt cx="8458200" cy="381240"/>
          </a:xfrm>
        </p:grpSpPr>
        <p:sp>
          <p:nvSpPr>
            <p:cNvPr id="71" name=""/>
            <p:cNvSpPr/>
            <p:nvPr/>
          </p:nvSpPr>
          <p:spPr>
            <a:xfrm>
              <a:off x="380880" y="6324480"/>
              <a:ext cx="1143000" cy="381240"/>
            </a:xfrm>
            <a:prstGeom prst="rect">
              <a:avLst/>
            </a:prstGeom>
            <a:solidFill>
              <a:srgbClr val="df35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oper Black"/>
                </a:rPr>
                <a:t>200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00200" y="6324480"/>
              <a:ext cx="1143000" cy="381240"/>
            </a:xfrm>
            <a:prstGeom prst="rect">
              <a:avLst/>
            </a:prstGeom>
            <a:solidFill>
              <a:srgbClr val="df35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oper Black"/>
                </a:rPr>
                <a:t>200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19520" y="6324480"/>
              <a:ext cx="1143000" cy="381240"/>
            </a:xfrm>
            <a:prstGeom prst="rect">
              <a:avLst/>
            </a:prstGeom>
            <a:solidFill>
              <a:srgbClr val="df35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oper Black"/>
                </a:rPr>
                <a:t>200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038480" y="6324480"/>
              <a:ext cx="1143000" cy="381240"/>
            </a:xfrm>
            <a:prstGeom prst="rect">
              <a:avLst/>
            </a:prstGeom>
            <a:solidFill>
              <a:srgbClr val="df35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oper Black"/>
                </a:rPr>
                <a:t>200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57800" y="6324480"/>
              <a:ext cx="1143000" cy="381240"/>
            </a:xfrm>
            <a:prstGeom prst="rect">
              <a:avLst/>
            </a:prstGeom>
            <a:solidFill>
              <a:srgbClr val="df35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oper Black"/>
                </a:rPr>
                <a:t>200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77120" y="6324480"/>
              <a:ext cx="1143000" cy="381240"/>
            </a:xfrm>
            <a:prstGeom prst="rect">
              <a:avLst/>
            </a:prstGeom>
            <a:solidFill>
              <a:srgbClr val="df35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oper Black"/>
                </a:rPr>
                <a:t>20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696080" y="6324480"/>
              <a:ext cx="1143000" cy="381240"/>
            </a:xfrm>
            <a:prstGeom prst="rect">
              <a:avLst/>
            </a:prstGeom>
            <a:solidFill>
              <a:srgbClr val="df35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oper Black"/>
                </a:rPr>
                <a:t>20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267080" y="4038480"/>
            <a:ext cx="685800" cy="22100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65760" y="367524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35d3"/>
                </a:solidFill>
                <a:latin typeface="Arial"/>
              </a:rPr>
              <a:t>39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10080" y="1447920"/>
            <a:ext cx="685800" cy="4800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81840" y="111744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f35d3"/>
                </a:solidFill>
                <a:latin typeface="Arial"/>
              </a:rPr>
              <a:t>9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loud"/>
          <p:cNvSpPr/>
          <p:nvPr/>
        </p:nvSpPr>
        <p:spPr>
          <a:xfrm>
            <a:off x="533520" y="1600200"/>
            <a:ext cx="3962160" cy="2295360"/>
          </a:xfrm>
          <a:prstGeom prst="pie">
            <a:avLst/>
          </a:prstGeom>
          <a:solidFill>
            <a:srgbClr val="a5d2d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oper Black"/>
              </a:rPr>
              <a:t>Only on wikispace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newsflash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4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6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8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0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2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# of Users: Raising B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80880" y="6324480"/>
            <a:ext cx="8458200" cy="381240"/>
            <a:chOff x="380880" y="6324480"/>
            <a:chExt cx="8458200" cy="381240"/>
          </a:xfrm>
        </p:grpSpPr>
        <p:sp>
          <p:nvSpPr>
            <p:cNvPr id="85" name=""/>
            <p:cNvSpPr/>
            <p:nvPr/>
          </p:nvSpPr>
          <p:spPr>
            <a:xfrm>
              <a:off x="380880" y="6324480"/>
              <a:ext cx="1143000" cy="3812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oper Black"/>
                </a:rPr>
                <a:t>200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00200" y="6324480"/>
              <a:ext cx="1143000" cy="3812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oper Black"/>
                </a:rPr>
                <a:t>200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819520" y="6324480"/>
              <a:ext cx="1143000" cy="3812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oper Black"/>
                </a:rPr>
                <a:t>200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8480" y="6324480"/>
              <a:ext cx="1143000" cy="3812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oper Black"/>
                </a:rPr>
                <a:t>200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57800" y="6324480"/>
              <a:ext cx="1143000" cy="3812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oper Black"/>
                </a:rPr>
                <a:t>200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77120" y="6324480"/>
              <a:ext cx="1143000" cy="3812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oper Black"/>
                </a:rPr>
                <a:t>20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96080" y="6324480"/>
              <a:ext cx="1143000" cy="3812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oper Black"/>
                </a:rPr>
                <a:t>20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267080" y="4038480"/>
            <a:ext cx="685800" cy="22100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5760" y="367524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35d3"/>
                </a:solidFill>
                <a:latin typeface="Arial"/>
              </a:rPr>
              <a:t>92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1447920"/>
            <a:ext cx="685800" cy="4800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81480" y="111744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f35d3"/>
                </a:solidFill>
                <a:latin typeface="Arial"/>
              </a:rPr>
              <a:t>22,0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Cloud"/>
          <p:cNvSpPr/>
          <p:nvPr/>
        </p:nvSpPr>
        <p:spPr>
          <a:xfrm>
            <a:off x="228600" y="1447920"/>
            <a:ext cx="419112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35d3"/>
                </a:solidFill>
                <a:latin typeface="Arial"/>
              </a:rPr>
              <a:t>Only on wikispace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newsflash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cc"/>
                </a:solidFill>
                <a:latin typeface="Cooper Black"/>
              </a:rPr>
              <a:t>Collaborate? Why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4124160" cy="3838680"/>
          </a:xfrm>
          <a:prstGeom prst="rect">
            <a:avLst/>
          </a:prstGeom>
          <a:ln w="0">
            <a:noFill/>
          </a:ln>
        </p:spPr>
      </p:pic>
      <p:pic>
        <p:nvPicPr>
          <p:cNvPr id="46" name="apple-ipad" descr=""/>
          <p:cNvPicPr/>
          <p:nvPr/>
        </p:nvPicPr>
        <p:blipFill>
          <a:blip r:embed="rId2"/>
          <a:stretch/>
        </p:blipFill>
        <p:spPr>
          <a:xfrm>
            <a:off x="5029200" y="1676520"/>
            <a:ext cx="3648240" cy="4114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6320" y="6172200"/>
            <a:ext cx="8991360" cy="609480"/>
          </a:xfrm>
          <a:prstGeom prst="rect">
            <a:avLst/>
          </a:prstGeom>
          <a:solidFill>
            <a:srgbClr val="ffda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14b25"/>
                </a:solidFill>
                <a:latin typeface="Arial Narrow"/>
              </a:rPr>
              <a:t>Lets look at 2 great examples of collaborative eff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In the communication age Collaboration is the key to succes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zoom dir="in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00"/>
            </a:gs>
            <a:gs pos="50000">
              <a:srgbClr val="cccc00"/>
            </a:gs>
            <a:gs pos="100000">
              <a:srgbClr val="5e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Cooper Black"/>
              </a:rPr>
              <a:t>Collaboration in K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lab_01" descr=""/>
          <p:cNvPicPr/>
          <p:nvPr/>
        </p:nvPicPr>
        <p:blipFill>
          <a:blip r:embed="rId1"/>
          <a:stretch/>
        </p:blipFill>
        <p:spPr>
          <a:xfrm>
            <a:off x="1523880" y="2438280"/>
            <a:ext cx="6096240" cy="4086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3055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Comic Sans MS"/>
              </a:rPr>
              <a:t>Team work, makes the dream wor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1b0a"/>
            </a:gs>
            <a:gs pos="50000">
              <a:srgbClr val="ffb343"/>
            </a:gs>
            <a:gs pos="100000">
              <a:srgbClr val="271b0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14400" y="213372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It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as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Qui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nd Free tool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295280" y="533520"/>
            <a:ext cx="647712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3300"/>
                  </a:solidFill>
                  <a:miter/>
                </a:ln>
                <a:solidFill>
                  <a:srgbClr val="ffdaa3"/>
                </a:solidFill>
                <a:effectLst>
                  <a:outerShdw dist="107932" dir="135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Why Wiki??</a:t>
            </a:r>
            <a:endParaRPr b="0" lang="en-US" sz="1800" spc="1" strike="noStrike">
              <a:ln w="38160">
                <a:solidFill>
                  <a:srgbClr val="ff3300"/>
                </a:solidFill>
                <a:miter/>
              </a:ln>
              <a:solidFill>
                <a:srgbClr val="ffdaa3"/>
              </a:solidFill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2000">
    <p:circl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14400" y="228600"/>
            <a:ext cx="7162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333399"/>
                  </a:solidFill>
                  <a:miter/>
                </a:ln>
                <a:solidFill>
                  <a:srgbClr val="ffdaa3"/>
                </a:solidFill>
                <a:effectLst>
                  <a:outerShdw dist="107932" dir="135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What does it need?</a:t>
            </a:r>
            <a:endParaRPr b="0" lang="en-US" sz="1800" spc="1" strike="noStrike">
              <a:ln w="38160">
                <a:solidFill>
                  <a:srgbClr val="333399"/>
                </a:solidFill>
                <a:miter/>
              </a:ln>
              <a:solidFill>
                <a:srgbClr val="ffdaa3"/>
              </a:solidFill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5" name="320px-Computer-aj_aj_ashton_01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56" name="Network-Internet-Connection-icon" descr=""/>
          <p:cNvPicPr/>
          <p:nvPr/>
        </p:nvPicPr>
        <p:blipFill>
          <a:blip r:embed="rId2"/>
          <a:stretch/>
        </p:blipFill>
        <p:spPr>
          <a:xfrm>
            <a:off x="2666880" y="2438280"/>
            <a:ext cx="3353040" cy="3353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838080" y="5514840"/>
            <a:ext cx="8001000" cy="1343160"/>
          </a:xfrm>
          <a:prstGeom prst="rect">
            <a:avLst/>
          </a:prstGeom>
          <a:ln w="0">
            <a:noFill/>
          </a:ln>
        </p:spPr>
      </p:pic>
      <p:pic>
        <p:nvPicPr>
          <p:cNvPr id="58" name="Web-Browsers" descr=""/>
          <p:cNvPicPr/>
          <p:nvPr/>
        </p:nvPicPr>
        <p:blipFill>
          <a:blip r:embed="rId4"/>
          <a:stretch/>
        </p:blipFill>
        <p:spPr>
          <a:xfrm>
            <a:off x="6095880" y="1981080"/>
            <a:ext cx="3048120" cy="28735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amond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oper Black"/>
              </a:rPr>
              <a:t>A brief history of wik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953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d Cunningh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March 25, 199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 (Hawaiian wo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s Qu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: To collaborate software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391px-%22Brion%22_and_Ward-edited" descr="File:&quot;Brion&quot; and Ward-edited.jpg"/>
          <p:cNvPicPr/>
          <p:nvPr/>
        </p:nvPicPr>
        <p:blipFill>
          <a:blip r:embed="rId5"/>
          <a:stretch/>
        </p:blipFill>
        <p:spPr>
          <a:xfrm>
            <a:off x="5181480" y="914400"/>
            <a:ext cx="3724560" cy="57056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zoom dir="in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962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67480" cy="4911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8534520" cy="4038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04920" y="1295280"/>
            <a:ext cx="8610480" cy="5061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124000" y="2057400"/>
            <a:ext cx="7020000" cy="4495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0" y="2362320"/>
            <a:ext cx="8991720" cy="449568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newsflash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02:46:16Z</dcterms:created>
  <dc:creator>ABC</dc:creator>
  <dc:description/>
  <dc:language>en-US</dc:language>
  <cp:lastModifiedBy>ABC</cp:lastModifiedBy>
  <dcterms:modified xsi:type="dcterms:W3CDTF">2011-10-14T05:10:48Z</dcterms:modified>
  <cp:revision>21</cp:revision>
  <dc:subject/>
  <dc:title>Wiki By Anwar</dc:title>
</cp:coreProperties>
</file>